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CDA-29E9-42EB-AA89-FEA47448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CFA-7906-4759-971B-AA867AF6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F85-5127-4C0B-8C5F-D6593709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FC59-F94C-4C47-92F6-9F6C83D6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5A76-C934-4F57-B6A1-C87FE554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D56-B59B-41F2-BEE6-9C7483B7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486-CD8A-4256-A7F9-C346CCBE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2CC-54B2-4D66-AE3A-AC1BD876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0AC-3F36-40D1-813B-9D3386CA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025-020C-4575-A7B4-B43AFABF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9AF-B344-4823-BE91-2A5DD52F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5B4-3DF1-4A24-B418-8F5D94F2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85F0-F9A2-4DBD-964B-DA461D39E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5560" y="56008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A2AS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 EP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cuss Enlisted Personnel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di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Given access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 601-210, AR 601-280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A Pam 600-2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ndard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completion of this lesson you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n overview of the Enli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nel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18:37:24Z</dcterms:created>
  <dc:creator>AG School</dc:creator>
  <dc:description/>
  <dc:language>en-US</dc:language>
  <cp:lastModifiedBy>Administrator</cp:lastModifiedBy>
  <dcterms:modified xsi:type="dcterms:W3CDTF">2005-07-08T12:08:33Z</dcterms:modified>
  <cp:revision>6</cp:revision>
  <dc:subject/>
  <dc:title>Terminal Learning Objec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A\CCA5HS0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